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55C-0DD5-4290-B766-C666CEF5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9B8-D83D-4764-93F5-5463403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562-3E9A-4EAA-A355-56688C9B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B76E-BC98-40D3-BB3C-68F51F25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82F-FD22-42CF-A47E-22757316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2AF-7C1E-482D-8A69-2FF93221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CCED-3013-4E66-A768-B384365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927-B41C-462A-9097-F7EA8FE5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3FE-86F8-4C0D-A706-52BA8114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C17-1BEC-4004-9565-F41CFA6E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7CA4-49C8-4460-A990-651AF606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A37-142C-49C0-8BD2-87E9A530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817-DEC2-4D7D-8A7C-A280C68C8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egonlive.com/portland/index.ssf/2010/08/multnomah_county_seeks_new_lan.html" TargetMode="External"/><Relationship Id="rId2" Type="http://schemas.openxmlformats.org/officeDocument/2006/relationships/hyperlink" Target="http://www.oregonlive.com/pacific-northwest-news/index.ssf/2010/08/winds_push_central_oregon_wildfire_to_2650_acres_evacuations_encouraged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alphaModFix amt="39000"/>
          </a:blip>
          <a:srcRect l="4673" t="20995" r="11675" b="19704"/>
          <a:stretch/>
        </p:blipFill>
        <p:spPr>
          <a:xfrm>
            <a:off x="4680" y="0"/>
            <a:ext cx="9128160" cy="6765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741240"/>
            <a:ext cx="8686800" cy="607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 are an ace reporter at your high school newspaper who just got a big assignment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You editor sends you to the scene of the ac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</a:rPr>
              <a:t>The cafeteria…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029200"/>
            <a:ext cx="458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2240" y="5218200"/>
            <a:ext cx="5349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4191120"/>
            <a:ext cx="7026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1680" y="2286000"/>
            <a:ext cx="6520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What do you do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alphaModFix amt="39000"/>
          </a:blip>
          <a:srcRect l="4673" t="20995" r="11675" b="28969"/>
          <a:stretch/>
        </p:blipFill>
        <p:spPr>
          <a:xfrm>
            <a:off x="0" y="0"/>
            <a:ext cx="9232920" cy="670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380880"/>
            <a:ext cx="8763120" cy="702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In the school cafeteria, where the votes for the school election have been tallied, one class president candidate is claiming that voter fraud has occurr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80"/>
                </a:solidFill>
                <a:latin typeface="Arial"/>
              </a:rPr>
              <a:t>What do you do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rvey the scene – What do you see? What details do you notice? What do you he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o is on scene you can talk t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fficials, witness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should you ask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details do you need to make sense of the st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Five W’s, one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or accurate, unbiased reporting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ave your opinion out of the story. Include only cited facts and details and quotes from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urces must be identified in the article and quotes must be word for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n’t rely on one source. Talk to multiple people to get all sides of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uble check your facts. If you aren’t sure, call your sourc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real lif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egonlive.com/portland/index.ssf/2010/08/multnomah_county_seeks_new_la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regonlive.com/pacific-northwest-news/index.ssf/2010/08/winds_push_central_oregon_wildfire_to_2650_acres_evacuations_encouraged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Arial"/>
              </a:rPr>
              <a:t>Take a look…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hat sources are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sides represen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all the questions answered? Any holes? What else do you want to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03:55:13Z</dcterms:created>
  <dc:creator> </dc:creator>
  <dc:description/>
  <dc:language>en-US</dc:language>
  <cp:lastModifiedBy> </cp:lastModifiedBy>
  <dcterms:modified xsi:type="dcterms:W3CDTF">2010-08-11T03:45:14Z</dcterms:modified>
  <cp:revision>9</cp:revision>
  <dc:subject/>
  <dc:title>You arrive on the scene</dc:title>
</cp:coreProperties>
</file>